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FFF60E-86E3-4018-94C1-014D04E338B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44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763272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6280" y="4192200"/>
            <a:ext cx="763272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00FC06-74DE-4BA0-B7E4-D673B113E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44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37245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7320" y="1938240"/>
            <a:ext cx="37245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6280" y="4192200"/>
            <a:ext cx="37245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7320" y="4192200"/>
            <a:ext cx="37245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89FF6A-0A99-44D5-BA6A-AF1126F74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44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24573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26760" y="1938240"/>
            <a:ext cx="24573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07600" y="1938240"/>
            <a:ext cx="24573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6280" y="4192200"/>
            <a:ext cx="24573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26760" y="4192200"/>
            <a:ext cx="24573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07600" y="4192200"/>
            <a:ext cx="24573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49BF87-0036-4D7E-9164-85EF879D3AA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44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746280" y="1938240"/>
            <a:ext cx="763272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44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763272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44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372456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57320" y="1938240"/>
            <a:ext cx="372456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44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71040" y="635040"/>
            <a:ext cx="780444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44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37245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7320" y="1938240"/>
            <a:ext cx="372456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746280" y="4192200"/>
            <a:ext cx="37245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44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6280" y="1938240"/>
            <a:ext cx="763272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BD4AAA-7AA2-4505-A68E-26405D04B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44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372456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7320" y="1938240"/>
            <a:ext cx="37245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57320" y="4192200"/>
            <a:ext cx="37245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44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37245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7320" y="1938240"/>
            <a:ext cx="37245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46280" y="4192200"/>
            <a:ext cx="763272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44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763272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746280" y="4192200"/>
            <a:ext cx="763272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44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37245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7320" y="1938240"/>
            <a:ext cx="37245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46280" y="4192200"/>
            <a:ext cx="37245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57320" y="4192200"/>
            <a:ext cx="37245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44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24573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26760" y="1938240"/>
            <a:ext cx="24573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07600" y="1938240"/>
            <a:ext cx="24573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746280" y="4192200"/>
            <a:ext cx="24573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26760" y="4192200"/>
            <a:ext cx="24573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07600" y="4192200"/>
            <a:ext cx="24573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44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763272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6BF426-9973-4C44-BD91-4ECB72A0F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44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372456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7320" y="1938240"/>
            <a:ext cx="372456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7DE810-F723-491C-8895-8A5212361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44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08035B-0B1E-454C-9579-75D46B221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71040" y="635040"/>
            <a:ext cx="780444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661BB7-FE91-43D2-BB3B-F862A2EBD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44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37245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7320" y="1938240"/>
            <a:ext cx="372456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6280" y="4192200"/>
            <a:ext cx="37245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016D2A-48B4-46AA-8AEF-1B5D343F2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44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372456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7320" y="1938240"/>
            <a:ext cx="37245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7320" y="4192200"/>
            <a:ext cx="37245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B80B90-D8C7-4FFC-A561-E3C5CC247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44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37245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7320" y="1938240"/>
            <a:ext cx="37245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6280" y="4192200"/>
            <a:ext cx="763272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E0A8AB-1971-43EC-9BA5-AE6A6BAC9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3280"/>
            <a:ext cx="212868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3280"/>
            <a:ext cx="212904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AE45C4-05E2-425C-B385-E32E73595E0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44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46280" y="1938240"/>
            <a:ext cx="763272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685800" y="1447920"/>
            <a:ext cx="7772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8920" indent="-355680" algn="ctr">
              <a:lnSpc>
                <a:spcPct val="100000"/>
              </a:lnSpc>
              <a:tabLst>
                <a:tab algn="l" pos="0"/>
                <a:tab algn="l" pos="358920"/>
                <a:tab algn="l" pos="816120"/>
                <a:tab algn="l" pos="1273320"/>
                <a:tab algn="l" pos="1730520"/>
                <a:tab algn="l" pos="2187720"/>
                <a:tab algn="l" pos="2644920"/>
                <a:tab algn="l" pos="3102120"/>
                <a:tab algn="l" pos="3559320"/>
                <a:tab algn="l" pos="4016520"/>
                <a:tab algn="l" pos="4473720"/>
                <a:tab algn="l" pos="4930920"/>
                <a:tab algn="l" pos="5388120"/>
                <a:tab algn="l" pos="5845320"/>
                <a:tab algn="l" pos="6302520"/>
                <a:tab algn="l" pos="6759720"/>
                <a:tab algn="l" pos="7216920"/>
                <a:tab algn="l" pos="7674120"/>
                <a:tab algn="l" pos="8131320"/>
                <a:tab algn="l" pos="8588520"/>
                <a:tab algn="l" pos="9045720"/>
                <a:tab algn="l" pos="9502920"/>
                <a:tab algn="l" pos="9601200"/>
                <a:tab algn="l" pos="10058400"/>
                <a:tab algn="l" pos="105156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Arial"/>
              </a:rPr>
              <a:t>18.2</a:t>
            </a:r>
            <a:br>
              <a:rPr sz="6000"/>
            </a:br>
            <a:r>
              <a:rPr b="1" i="1" lang="en-US" sz="6000" spc="-1" strike="noStrike">
                <a:solidFill>
                  <a:srgbClr val="000000"/>
                </a:solidFill>
                <a:latin typeface="Arial"/>
              </a:rPr>
              <a:t>Challenging </a:t>
            </a:r>
            <a:br>
              <a:rPr sz="6000"/>
            </a:br>
            <a:r>
              <a:rPr b="1" i="1" lang="en-US" sz="6000" spc="-1" strike="noStrike">
                <a:solidFill>
                  <a:srgbClr val="000000"/>
                </a:solidFill>
                <a:latin typeface="Arial"/>
              </a:rPr>
              <a:t>Segregation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317520"/>
            <a:ext cx="780876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C. Kennedy and Civil Rights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4572000" cy="51800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1. Promised to support                  CR during campaign.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2. Cautious in office, 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              need support from     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              Southern senators.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3. Created the 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Committee on Equal                  Employment 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Opportunity (CEEO).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i. Stop discrimination in 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hiring and promotions in the      Fed. Gov.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16480" y="1600200"/>
            <a:ext cx="3598920" cy="5029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71400" y="679320"/>
            <a:ext cx="780912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4. Justice Department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57280" y="1600200"/>
            <a:ext cx="4014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720720"/>
                <a:tab algn="l" pos="1444680"/>
                <a:tab algn="l" pos="2171880"/>
                <a:tab algn="l" pos="2892600"/>
                <a:tab algn="l" pos="361620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10055160"/>
                <a:tab algn="l" pos="10512360"/>
                <a:tab algn="l" pos="10514160"/>
                <a:tab algn="l" pos="105156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a. Run by Robert F. 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        Kennedy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720720"/>
                <a:tab algn="l" pos="1444680"/>
                <a:tab algn="l" pos="2171880"/>
                <a:tab algn="l" pos="2892600"/>
                <a:tab algn="l" pos="361620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10055160"/>
                <a:tab algn="l" pos="10512360"/>
                <a:tab algn="l" pos="10514160"/>
                <a:tab algn="l" pos="105156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i. **Filed lawsuits across 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  the South against 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  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  those that stopped 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  voter registration.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720720"/>
                <a:tab algn="l" pos="1444680"/>
                <a:tab algn="l" pos="2171880"/>
                <a:tab algn="l" pos="2892600"/>
                <a:tab algn="l" pos="361620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10055160"/>
                <a:tab algn="l" pos="10512360"/>
                <a:tab algn="l" pos="10514160"/>
                <a:tab algn="l" pos="105156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b. JFK forced Interstate 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        Commerce Commission      to integrate bus 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720720"/>
                <a:tab algn="l" pos="1444680"/>
                <a:tab algn="l" pos="2171880"/>
                <a:tab algn="l" pos="2892600"/>
                <a:tab algn="l" pos="361620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10055160"/>
                <a:tab algn="l" pos="10512360"/>
                <a:tab algn="l" pos="10514160"/>
                <a:tab algn="l" pos="105156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terminals. 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657680" y="1600200"/>
            <a:ext cx="4257720" cy="4800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80876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5. James Meredith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40543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. Air Force vetera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. Wanted to register at </a:t>
            </a: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       the University of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Mississippi.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i. Denied entrance by </a:t>
            </a: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 Gov. Ross Barnett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. 500 federal marshals </a:t>
            </a: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         and several thousand          troops sent by JFK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861080" y="1371600"/>
            <a:ext cx="3597120" cy="4888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71400" y="679320"/>
            <a:ext cx="780912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D. Violence in Birmingham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520800" cy="42307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1. Demonstration             lead by Dr. King.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2. Dr. King arrested after 8 days of protesting.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a. “Letter from 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Birmingham Jail”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3. After Dr. King's 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release, the protest          grew even more.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343400" y="1600200"/>
            <a:ext cx="4572000" cy="4800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20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229600" cy="59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800100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7320" cy="73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E. Civil Rights Act of 1964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45920" y="1599840"/>
            <a:ext cx="372564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1. Alabama Gov. George Wallace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a. Denied AA students entrance to U of Alabama.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2. Murder of civil rights worker brought JFK to announce the bill.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049720" y="1371600"/>
            <a:ext cx="3408480" cy="4884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229600" cy="59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3. March on Washington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5640" cy="4346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a. August 28th, 1963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b. Created to help support bill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c. MLK Jr. delivered his “I Have a Dream” speech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i. March and speech built momentum for the bill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657680" y="1600200"/>
            <a:ext cx="4029120" cy="4800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686800" cy="640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Lesson Objectives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343080"/>
                <a:tab algn="l" pos="720720"/>
                <a:tab algn="l" pos="1444680"/>
                <a:tab algn="l" pos="2171880"/>
                <a:tab algn="l" pos="2892600"/>
                <a:tab algn="l" pos="3616200"/>
                <a:tab algn="l" pos="4340160"/>
                <a:tab algn="l" pos="5064120"/>
                <a:tab algn="l" pos="5788080"/>
                <a:tab algn="l" pos="6515280"/>
                <a:tab algn="l" pos="7236000"/>
                <a:tab algn="l" pos="7959600"/>
                <a:tab algn="l" pos="8226360"/>
                <a:tab algn="l" pos="8683560"/>
                <a:tab algn="l" pos="9140760"/>
                <a:tab algn="l" pos="9597960"/>
                <a:tab algn="l" pos="10055160"/>
                <a:tab algn="l" pos="10512360"/>
                <a:tab algn="l" pos="10514160"/>
                <a:tab algn="l" pos="105156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1. The students will be able to explain </a:t>
            </a: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   the effect of the Sit-In Movement.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343080"/>
                <a:tab algn="l" pos="720720"/>
                <a:tab algn="l" pos="1444680"/>
                <a:tab algn="l" pos="2171880"/>
                <a:tab algn="l" pos="2892600"/>
                <a:tab algn="l" pos="3616200"/>
                <a:tab algn="l" pos="4340160"/>
                <a:tab algn="l" pos="5064120"/>
                <a:tab algn="l" pos="5788080"/>
                <a:tab algn="l" pos="6515280"/>
                <a:tab algn="l" pos="7236000"/>
                <a:tab algn="l" pos="7959600"/>
                <a:tab algn="l" pos="8226360"/>
                <a:tab algn="l" pos="8683560"/>
                <a:tab algn="l" pos="9140760"/>
                <a:tab algn="l" pos="9597960"/>
                <a:tab algn="l" pos="10055160"/>
                <a:tab algn="l" pos="10512360"/>
                <a:tab algn="l" pos="10514160"/>
                <a:tab algn="l" pos="105156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2. The students will be able to discuss </a:t>
            </a: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   the effect of the Birmingham         </a:t>
            </a: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   protests.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343080"/>
                <a:tab algn="l" pos="720720"/>
                <a:tab algn="l" pos="1444680"/>
                <a:tab algn="l" pos="2171880"/>
                <a:tab algn="l" pos="2892600"/>
                <a:tab algn="l" pos="3616200"/>
                <a:tab algn="l" pos="4340160"/>
                <a:tab algn="l" pos="5064120"/>
                <a:tab algn="l" pos="5788080"/>
                <a:tab algn="l" pos="6515280"/>
                <a:tab algn="l" pos="7236000"/>
                <a:tab algn="l" pos="7959600"/>
                <a:tab algn="l" pos="8226360"/>
                <a:tab algn="l" pos="8683560"/>
                <a:tab algn="l" pos="9140760"/>
                <a:tab algn="l" pos="9597960"/>
                <a:tab algn="l" pos="10055160"/>
                <a:tab algn="l" pos="10512360"/>
                <a:tab algn="l" pos="10514160"/>
                <a:tab algn="l" pos="105156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3. The students will be able to explain </a:t>
            </a: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   what the CRA of 1964 did for African   Americans. 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71040" y="679320"/>
            <a:ext cx="780732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4. Bill becomes a Law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45920" y="1937880"/>
            <a:ext cx="3725640" cy="4256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a. Problems in the Senate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i. Filibuster from Southern Dems.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b. President Johnson used background as Senator to pressure Congress.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c. Bill signed on July 2nd, 1964.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657680" y="1600200"/>
            <a:ext cx="4257720" cy="4800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0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2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2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2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20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**d. Most Comprehensive </a:t>
            </a:r>
            <a:br>
              <a:rPr sz="4000"/>
            </a:b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Civil Rights Law 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7635600" cy="4346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i. Fed. Gov could prevent discrimination in many areas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ii. Segregation illegal in most public   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places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iii. End school segregation and 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discrimination in the workplace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iv. Equal Employment Opportunity Commission (EEOC)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-Monitored ban on job discrimination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0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2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2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2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20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20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F. Voting Rights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12800"/>
            <a:ext cx="37260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1. 24</a:t>
            </a:r>
            <a:r>
              <a:rPr b="0" lang="en-US" sz="2800" spc="-1" strike="noStrike" baseline="33000">
                <a:solidFill>
                  <a:srgbClr val="333333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 Amendment eliminated the poll tax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2. The Selma March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a. March 7th, 1965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b. Selma to Montgomery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c. 500 protester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3. Protesters beat by police in front of t.v. cameras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343400" y="1828800"/>
            <a:ext cx="4572000" cy="457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0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2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2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2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20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20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458200" cy="640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458200" cy="640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71040" y="22824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4. Voting Rights Act of 1965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45920" y="1371600"/>
            <a:ext cx="3725640" cy="50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a. Passed August 3rd, 1965.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i. Federal examiners sent to register voters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ii. Literacy tests gone 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b. Dramatic Results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i. 250,000 registered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c. Movement shifted focus to social/economic issues. 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572000" y="1371600"/>
            <a:ext cx="4114800" cy="5029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0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2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2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2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20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20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20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A. The Sit-In Movement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38240"/>
            <a:ext cx="401472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1. Started by four African  American teenage boys.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a. Refused to move from 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the counter until they 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were served.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2. More than 100 cities had              sit-ins.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3. Largely put together by       college students.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657680" y="1828800"/>
            <a:ext cx="4257720" cy="4343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609480" y="533520"/>
            <a:ext cx="7620120" cy="601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71400" y="425160"/>
            <a:ext cx="7809120" cy="156204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3600" spc="-1" strike="noStrike">
                <a:solidFill>
                  <a:srgbClr val="99284c"/>
                </a:solidFill>
                <a:latin typeface="Arial"/>
              </a:rPr>
              <a:t>4. Student Nonviolent </a:t>
            </a:r>
            <a:br>
              <a:rPr sz="3600"/>
            </a:br>
            <a:r>
              <a:rPr b="1" i="1" lang="en-US" sz="3600" spc="-1" strike="noStrike">
                <a:solidFill>
                  <a:srgbClr val="99284c"/>
                </a:solidFill>
                <a:latin typeface="Arial"/>
              </a:rPr>
              <a:t>Coordinating Committee </a:t>
            </a:r>
            <a:br>
              <a:rPr sz="3600"/>
            </a:br>
            <a:r>
              <a:rPr b="1" i="1" lang="en-US" sz="3600" spc="-1" strike="noStrike">
                <a:solidFill>
                  <a:srgbClr val="99284c"/>
                </a:solidFill>
                <a:latin typeface="Arial"/>
              </a:rPr>
              <a:t>(SNCC)</a:t>
            </a: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5640" cy="467208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720720"/>
                <a:tab algn="l" pos="1444680"/>
                <a:tab algn="l" pos="2171880"/>
                <a:tab algn="l" pos="2892600"/>
                <a:tab algn="l" pos="361620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10055160"/>
                <a:tab algn="l" pos="10512360"/>
                <a:tab algn="l" pos="10514160"/>
                <a:tab algn="l" pos="105156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i. Students from the 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    South were the 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720720"/>
                <a:tab algn="l" pos="1444680"/>
                <a:tab algn="l" pos="2171880"/>
                <a:tab algn="l" pos="2892600"/>
                <a:tab algn="l" pos="361620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10055160"/>
                <a:tab algn="l" pos="10512360"/>
                <a:tab algn="l" pos="10514160"/>
                <a:tab algn="l" pos="105156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majority of 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720720"/>
                <a:tab algn="l" pos="1444680"/>
                <a:tab algn="l" pos="2171880"/>
                <a:tab algn="l" pos="2892600"/>
                <a:tab algn="l" pos="361620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10055160"/>
                <a:tab algn="l" pos="10512360"/>
                <a:tab algn="l" pos="10514160"/>
                <a:tab algn="l" pos="105156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members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2" marL="107784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720720"/>
                <a:tab algn="l" pos="1444680"/>
                <a:tab algn="l" pos="2171880"/>
                <a:tab algn="l" pos="2892600"/>
                <a:tab algn="l" pos="361620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10055160"/>
                <a:tab algn="l" pos="10512360"/>
                <a:tab algn="l" pos="10514160"/>
                <a:tab algn="l" pos="105156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-Also had whit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07784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720720"/>
                <a:tab algn="l" pos="1444680"/>
                <a:tab algn="l" pos="2171880"/>
                <a:tab algn="l" pos="2892600"/>
                <a:tab algn="l" pos="361620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10055160"/>
                <a:tab algn="l" pos="10512360"/>
                <a:tab algn="l" pos="10514160"/>
                <a:tab algn="l" pos="105156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member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720720"/>
                <a:tab algn="l" pos="1444680"/>
                <a:tab algn="l" pos="2171880"/>
                <a:tab algn="l" pos="2892600"/>
                <a:tab algn="l" pos="361620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10055160"/>
                <a:tab algn="l" pos="10512360"/>
                <a:tab algn="l" pos="10514160"/>
                <a:tab algn="l" pos="105156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720720"/>
                <a:tab algn="l" pos="1444680"/>
                <a:tab algn="l" pos="2171880"/>
                <a:tab algn="l" pos="2892600"/>
                <a:tab algn="l" pos="361620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10055160"/>
                <a:tab algn="l" pos="10512360"/>
                <a:tab algn="l" pos="10514160"/>
                <a:tab algn="l" pos="105156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ii.**Sent volunteers to         the Deep South, rural areas, to help voter registration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657680" y="2057400"/>
            <a:ext cx="4257720" cy="4343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8087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5. Voter Education Project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45920" y="1143000"/>
            <a:ext cx="3725640" cy="518328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a. **Push focus to the     rural areas of the Deep South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b. Dangerous to travel to the South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i. 3 SNCC workers 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    murdered in 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    1964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**6. Main Goal of CRM: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Integrate public 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     places and the right       to vote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657680" y="1828800"/>
            <a:ext cx="4029120" cy="4343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800100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8839440" cy="6458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5" dur="indefinite" restart="never" nodeType="tmRoot">
          <p:childTnLst>
            <p:seq>
              <p:cTn id="116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117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0" dur="1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71400" y="679320"/>
            <a:ext cx="780912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B. The Freedom Riders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45920" y="1937880"/>
            <a:ext cx="372564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1.**Protested bus 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terminal 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segregation.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2.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May 1961, first FR 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     group went down    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     South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i. Met by angry white 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     mobs; bombed buses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3. Violence against the 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     FRs shocked 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Americans and JFK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657680" y="1828800"/>
            <a:ext cx="4257720" cy="457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1T17:13:23Z</dcterms:created>
  <dc:creator>Milner Lab User</dc:creator>
  <dc:description/>
  <dc:language>en-US</dc:language>
  <cp:lastModifiedBy>School District U46</cp:lastModifiedBy>
  <dcterms:modified xsi:type="dcterms:W3CDTF">2011-04-08T12:28:31Z</dcterms:modified>
  <cp:revision>5</cp:revision>
  <dc:subject/>
  <dc:title>18.2 Challenging Segregation</dc:title>
</cp:coreProperties>
</file>